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0348-4221-4940-A9AF-6358E7AC2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8F32-AD8B-469D-ACE6-4A176A30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63AF-3CD1-4220-88F5-FA552EC41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31F6-21C8-4DCA-AAC0-DC029721E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81BB-A738-4E81-B721-1DD1C3A8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B02A-3079-41B9-AF38-D43AA775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F673-2F2B-440C-B205-AFECC7C0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73AD-FF38-4137-AF35-150A104D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07EA-27A6-4BA7-88D6-B92B3577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9146-CD38-42D4-9F76-D2935242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6896-01E4-4C5F-9C3E-D20C1151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2143-2B31-4F62-B569-F9DC851B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B643-43D8-4C26-B80A-1BD5560B1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alacrán de fray Góm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ardo Pal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33-19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Pj03140750000[1]"/>
          <p:cNvPicPr/>
          <p:nvPr/>
        </p:nvPicPr>
        <p:blipFill>
          <a:blip r:embed="rId1"/>
          <a:stretch/>
        </p:blipFill>
        <p:spPr>
          <a:xfrm>
            <a:off x="380880" y="5181480"/>
            <a:ext cx="1371600" cy="1084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MCj02311570000[1]"/>
          <p:cNvPicPr/>
          <p:nvPr/>
        </p:nvPicPr>
        <p:blipFill>
          <a:blip r:embed="rId2"/>
          <a:stretch/>
        </p:blipFill>
        <p:spPr>
          <a:xfrm>
            <a:off x="7238880" y="4343400"/>
            <a:ext cx="1714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ódigo histórico y liter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 Francisco Solano (1549-1610) vivió en Perú a partir de 1590 para evangelizar el á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obra forma parte de el género de literatura de “tradición”, desarrollado en hispanoamérica, cuyo objetivo es recrear los hechos de los tiempos coloniales, dándoles un lugar concreto en la histor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MCj03244500000[1]"/>
          <p:cNvPicPr/>
          <p:nvPr/>
        </p:nvPicPr>
        <p:blipFill>
          <a:blip r:embed="rId1"/>
          <a:stretch/>
        </p:blipFill>
        <p:spPr>
          <a:xfrm>
            <a:off x="7848720" y="5619600"/>
            <a:ext cx="914400" cy="9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radiciones perua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texto enciclopédico escrito por Palma, en el que el autor recrea el pasado y el presente de Per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amos lo que nos dice el autor al respec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Cj01516050000[1]"/>
          <p:cNvPicPr/>
          <p:nvPr/>
        </p:nvPicPr>
        <p:blipFill>
          <a:blip r:embed="rId1"/>
          <a:stretch/>
        </p:blipFill>
        <p:spPr>
          <a:xfrm>
            <a:off x="304920" y="5105520"/>
            <a:ext cx="137160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érica es el teatro de los sucesos; costumbres y tipos americanos son los exhibidos; y el que escriba “Tradiciones,” no sólo está obligado a darles colorido local, sino que hasta el lenguaje debe sacrificar...la pureza clásica del castellano para poner en boca de los personajes frases de riguroso provincialismo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diciones peruan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49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MCAN01309_0000[1]"/>
          <p:cNvPicPr/>
          <p:nvPr/>
        </p:nvPicPr>
        <p:blipFill>
          <a:blip r:embed="rId1"/>
          <a:stretch/>
        </p:blipFill>
        <p:spPr>
          <a:xfrm>
            <a:off x="6324480" y="5486400"/>
            <a:ext cx="222120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ál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Por qué le dedica Palma el cuento a su amigo Casimiro Prieto Valdéz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uál dicho le llama la atención a Palma y por qué desea investigarl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ómo ubica Palma su cuento en un marco histórico en el primer párrafo? ¿Por qué lo ha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MCj01510290000[1]"/>
          <p:cNvPicPr/>
          <p:nvPr/>
        </p:nvPicPr>
        <p:blipFill>
          <a:blip r:embed="rId1"/>
          <a:stretch/>
        </p:blipFill>
        <p:spPr>
          <a:xfrm>
            <a:off x="19080" y="5124600"/>
            <a:ext cx="1574640" cy="15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ál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uáles fuentes históricas menciona Palma para verificar el nombre de fray Gómez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uáles son los milagros que hace fray Gómez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ués de establecer la verosimilitud del relato en la primera parte, Palma cuenta el evento principal del cuento. ¿Qué suced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MCSO01268_0000[1]"/>
          <p:cNvPicPr/>
          <p:nvPr/>
        </p:nvPicPr>
        <p:blipFill>
          <a:blip r:embed="rId1"/>
          <a:stretch/>
        </p:blipFill>
        <p:spPr>
          <a:xfrm>
            <a:off x="6848640" y="5222880"/>
            <a:ext cx="183816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ros ele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uáles ejemplos de humor y del uso de un idioma “que da el colorido local” encontramos en la ob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uál es la relación entre el autor y el lector? ¿Cuál es la intención del autor al respec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MCj01941000000[1]"/>
          <p:cNvPicPr/>
          <p:nvPr/>
        </p:nvPicPr>
        <p:blipFill>
          <a:blip r:embed="rId1"/>
          <a:stretch/>
        </p:blipFill>
        <p:spPr>
          <a:xfrm>
            <a:off x="685800" y="5181480"/>
            <a:ext cx="1295280" cy="903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MCj02527690000[1]"/>
          <p:cNvPicPr/>
          <p:nvPr/>
        </p:nvPicPr>
        <p:blipFill>
          <a:blip r:embed="rId2"/>
          <a:stretch/>
        </p:blipFill>
        <p:spPr>
          <a:xfrm>
            <a:off x="4952880" y="4419720"/>
            <a:ext cx="50652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01:42:08Z</dcterms:created>
  <dc:creator>STORNA</dc:creator>
  <dc:description/>
  <dc:language>en-US</dc:language>
  <cp:lastModifiedBy>Mami</cp:lastModifiedBy>
  <dcterms:modified xsi:type="dcterms:W3CDTF">2010-04-03T16:42:31Z</dcterms:modified>
  <cp:revision>3</cp:revision>
  <dc:subject/>
  <dc:title>El alacrán de Fray Gómez</dc:title>
</cp:coreProperties>
</file>